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6EC-5A8E-489E-864D-88E41029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62D-10CB-45F2-8589-89ED6F53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484D9-2597-45B1-BA45-2058FDDC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335B9-3296-4937-96C4-F02F93E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6C7C9-48DD-4AEF-8753-633C1E8C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A592D-5F45-451C-B751-0F8DFD7C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D210A-6CFA-46A2-94F0-F6568A3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94F2E-7AEA-4803-8066-C07F1475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D506A-38C6-4F75-BEE6-06F5D39D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78E9A-42CF-44B1-9043-E42E97B6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17BC5-EF6F-4715-87D7-42FA43D9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FD8DE-350D-46FA-A05D-D9D70DD6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244-1579-44F6-BF81-D789E442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8163C-4192-4367-9326-0C917CEB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D5863-ECFD-44DD-95D8-00CB5D84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1E0E5-91DA-4A0C-A68F-1E0DABF3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16107-99C6-4B05-83B3-73629781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4898B-3269-40DA-A310-4F894B19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540C5-CFCD-4F19-B531-D4687A59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0A8C4-897C-49DA-B29E-97DD93B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C01B8-ED27-4731-9903-0FE4E32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FB65D-53D8-4D44-9526-39227813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D243C-D3E6-45ED-B5D3-A72BB985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CBB-ACB4-48F8-864A-DD64EC7C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B08A2-C2B8-41CD-ABB2-8CF94426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08C33-067C-4937-AEE9-9F67817B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2590C-108D-4180-9728-FC772590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A26BE-397D-4C3D-A76F-36724AAF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DC1AF-2B81-418A-9EFD-81B6087B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3D90A-0951-422A-87B1-F097672F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7230B-4AC8-4613-89A2-3A1E906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A0E6-B116-477C-8C5E-4C0402DA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744B5-54F0-441F-889E-436FD57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5022E-9687-4666-9734-1CE36E09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5B72-E943-4D89-8BC4-C922D970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8FBC4-19F1-4EB1-B044-E588B38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D24BC-4E21-47FD-9E0B-2AD5F9D6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AF23D-E7B9-47B1-AEAA-0A21D781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9EAD9-28B9-4FD7-90AA-9563C916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E21B1-8E2D-4F76-B7B5-EF071F49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3DB3A-E6E0-48BB-834D-784FFA5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0AFE7-5DA1-435F-8EB5-02A993FF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25B4B-2721-4D7A-9C49-2770789F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14293-97E0-4E42-8AE0-279DAE55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4CEF5-3FF8-4F2D-A614-255C26BE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12E9-C70C-4EB4-8189-EE5FED48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FCA65-7C5C-4CFD-82E3-05DDBC67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82667-8F1E-45D9-9CC3-A3D0E2CC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2446D-14B4-4A7A-8A6E-DEA918FE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002E8-85BF-4756-B609-0063693E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F1D21-C325-4B4E-8E61-3C3B36AD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6A7D-C5B4-4B45-ADBC-AC04FE0A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62D2-4130-4002-B9A3-5BA5A1C0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DBC9-9492-4761-B9CE-A2CA903D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6F54-C7E5-4D30-8457-AFC6853C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35C7-DBA8-4297-8208-A18E773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B1A-DE8B-4E4B-95F6-E4924432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0E10-29CD-4DB9-BEC2-D9A0EE5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722-ACCF-44F3-80E0-3807D78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0E3B-AE2B-44B1-831A-BDF1B46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4393-AC29-402D-B0E9-8EC87148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C70D-C298-4357-9DC4-FBD57432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6715-C7C5-43B1-8D35-D2C2F2E9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C981-8944-4F5B-8FC9-644257F3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703E-2458-4120-AD4E-739D7F1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FEBD-8917-44E9-B828-FA8CC667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C86C8-605F-4B3A-B586-E48A87BD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F6A-7C9F-4E5A-AF12-39390DF8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6F4E-657E-430F-88C0-B9F58FAB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325E6-3F89-4780-8BA3-ED631B3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F414-B423-463B-9C51-1E8F73C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85871-7126-44D6-A12F-7A15BCE1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5FE8-B849-4F7A-826F-DF8B17DA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C121-B3A8-4A9D-90E7-089CC529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8DBF-5767-4D8D-9DA3-59118D65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EBA4-9AAB-4249-AB13-DB86E2FF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ACB3-0B50-49B0-B6EB-C2960BAF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A923-2375-4DC4-8DB9-B0B83171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18A-7B27-44C2-A0CC-B0CFCDEF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A54F-2CFD-4B6E-B70B-33879028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7FB7-E666-43D6-A011-286843FF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9BE8-2CAA-44B0-8876-926F2B41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8B03-ABE7-44F9-B6DF-18BD48C7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98C0-5EA9-4978-A577-21A8BFD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0A173-8423-49FA-9F89-BE342B4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3785-43AC-416B-9438-DA0E047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3E07-6A90-40FF-8C68-52DAAC34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BDD3B-BE14-449D-865E-E94891CE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D5CFC-5338-437A-A57B-8B7CB2A0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0B4-8D3E-41C4-BD4E-0B0A2C55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3DE1-D0BA-4F21-BC03-CAC6868B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C4DB-E871-45CF-ABBA-A799839E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5BCFC-936B-42ED-B98A-66EC7DA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1790-31ED-4F8C-8EAB-98271DD6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84811-08FE-451A-A948-4979596E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A2A5-7920-43CA-BFC1-BD3192D4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71201-2063-41E4-8396-209981A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C34A6-3E00-41B0-A18A-EBD64D5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4C8C-2E44-40DC-9DF8-41D32131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040A-D9BD-4161-B8FD-59354E0C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DED-C8F3-4670-8D60-3358FB12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1FA6-9E01-4401-9FC0-21AD7841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34CA3-3DEA-48F2-B16F-1C291C7A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F6ED2-44B4-4DB2-A8E8-877D5BF8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802BF-E2FB-451C-A22F-3804AA2C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9103-7957-42D8-93A2-41809E44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6115-9D15-4543-852A-0104C465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BAAB-95C8-42D7-B54C-9FBE77B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AE8CD-DD81-4A10-9C49-FFD77B3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A0F7-9037-485F-838B-2A95337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C95ED-C834-4180-91A6-3935951A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DDB-626D-4893-B8C2-267D5E63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BC50-04E0-4130-BB15-2DE05E72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00DB-DD40-4C70-BD74-9063A5A7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6612E-9B5A-4E9B-B012-7C4FBA7E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2ABC-B78C-44D9-A7E2-1A92206D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A00AA-A618-402A-BDB8-F435CC0E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3ECBC-345C-48EB-8458-52971F6C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5AEC3-7CD3-42C9-AE59-162DBEF0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3F0E9-9279-4AB3-80A3-0FA454C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2E88-C131-4FEE-A9EA-DCB6FFBD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D1D89-595F-4091-8593-59EA421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521-B0B0-4280-A381-07467B6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47DA3-7831-4DF4-8FC9-9B0549D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5FBB-6D1B-4FD2-B210-3675EFE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FA34-C31F-4827-8027-302F9710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1C61C-03A7-4A27-904E-ABF576A6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0A8DE-16A5-4677-8238-B82A0CD7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F3072-25F2-4BD8-B074-62CB50E1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FD2EB-20E6-4553-B5E9-ADBB1643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3153-6EBC-42D7-94BF-386EF9B5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8AE0C-627D-46F7-AE54-6ADDE92F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88B0A-986A-4FAF-8765-648535F9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7A4-C3AC-4651-8B85-47F8D4F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C1B74-5B4E-4438-908A-329D693E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42BB-DEC3-4C79-A214-B150E57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2C8BB-BE32-4BDC-91E9-A975203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813E-B488-4E2E-9CC7-16C97DC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6737-331C-4F5B-B028-F207F16A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EA39A-0B00-45C5-B591-DD1CA863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F195C-6DFD-4095-8963-B8E2C200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235E8-CD48-49DA-B0F1-A80316AA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C5952-E72B-4749-8A10-F175EA4F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DCB8B-506B-454B-B9EE-043B91E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17EA-EDDA-4B91-AA8C-4DC762EF60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AC8-AB65-410E-B815-F526C17A03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FF11-4D7B-4AA8-9456-461C49837E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A994-47A8-46B5-A780-ABFD10FD51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DA1B-79DA-45A2-BE07-2DCB31C3E2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04B0-F44D-4A52-8887-5A32BB69BA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18E9-22C1-492C-AE24-8489724ABD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4B55-3EB8-4C44-935D-56137E896E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DA62-5A84-4798-8064-1DED06DCDF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E21-4531-40F3-88AD-003CD61DC5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EA8F-8C8B-4EA2-8602-09FA06D37A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E56E-72AC-4C42-9DC5-4307E5191F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8 Je veľký náš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eľký náš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lávy je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do všetkých strán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ev vrúcnych zni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d celým vesmíro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ádu m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lášť na náš svet pamätá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láňa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tej moci zvesť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šíri sa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Tvorcovi česť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 každý rád vz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halí tma obzo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hromu znie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v tom zas len Lásk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osloviť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šetkých chce v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Slovom, čo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vďaka mu, č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zácny ten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360" y="1886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vorstva Pán, Priat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pasiteľ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láskavo nad sve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ží vždy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o náš svet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vládne v ňom hr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 láske nás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d nami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omu, kto tú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spásou sa st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 milosti večný 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raz d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03:23Z</dcterms:modified>
  <cp:revision>7</cp:revision>
  <dc:subject/>
  <dc:title>Je veľký náš Pán, on slávy je Kráľ Nech do všetkých strán  spev vrúcnych znie chvál.</dc:title>
</cp:coreProperties>
</file>